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BE6-493D-4EA9-8693-E1976994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4CD-71A3-4CBB-98CE-354D25AC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EE1-8961-4C66-A77A-2BDFC6DD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FB3-BF93-414C-B12C-2973A0FC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7E75-4C64-437A-80FD-AA5C8F95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CED0-514A-47F2-9FE8-E6CE1BB2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52EF-A454-47B4-918B-67C43191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0E93-6954-45A0-B5EF-AFFCA395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D861-FBA2-46D6-A861-5244F5F3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4C4F-437A-4197-B4AD-F1EA420C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9E87-0B25-469E-BEA0-1B52E1B1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7C7-9D94-45EB-8F6D-6A6ED76E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089B-523D-4B04-A14F-E9532521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EB3B-14D4-41CB-8F78-27EDB9B2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8FA0-F0C8-4DAC-9EB1-ADD4A1A5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5BB0-138B-4EF3-81FD-19255D51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1BA9-969C-4236-A58F-1381F304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A42-EA6D-4FBC-8B74-BE0A4500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157-5750-4298-ABF3-B53F2418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921-F157-4665-B29F-48145694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620-A983-4965-A667-2F0834DA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E3D-FCBE-4003-9EB5-B925D7D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9FD-FDD4-4F15-9401-A0736371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CC8-1AA7-4E9F-9690-D982F477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7B60-8E6C-44D9-9E8F-E076F3C122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EC08-BAF2-4CE2-99D4-29D09F1DCF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2.4—Defining, Naming &amp; Writing Acids &amp;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70440" y="579276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to know what acids behave when talking about ant-acid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39440" y="3170160"/>
            <a:ext cx="1442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41320" y="3133800"/>
            <a:ext cx="457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74960" y="2771640"/>
            <a:ext cx="0" cy="3319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91720" y="231624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9520" y="4011480"/>
            <a:ext cx="6858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660760" y="4002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76360" y="4334040"/>
            <a:ext cx="142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Bro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70040" y="203508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It’s an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55840" y="46562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Use “hydro___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0080" y="3360600"/>
            <a:ext cx="37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 h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Start with “H” (more than 1 “H” is OK, to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Do contain oxyg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name these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Use “___ic acids” for “-ate” an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Use “___ous acids” for “-ite” an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Oxygen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7040" y="54878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use “hydro” with these…the word “acid” is how you know it begins with hydrogen, not “hydro-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94760" y="2805120"/>
            <a:ext cx="21132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62360" y="2881440"/>
            <a:ext cx="9144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219560" y="2500200"/>
            <a:ext cx="0" cy="3319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4120" y="2043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76760" y="3795840"/>
            <a:ext cx="109692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286240" y="379548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32760" y="4176720"/>
            <a:ext cx="1660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Sulf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63920" y="167148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It’s an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76760" y="4557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-ite”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Use “___ous”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94760" y="2805120"/>
            <a:ext cx="21132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05160" y="570060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lfurous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3960" y="2849400"/>
            <a:ext cx="21132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11560" y="2925720"/>
            <a:ext cx="9144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68760" y="254448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65120" y="208764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25960" y="3840120"/>
            <a:ext cx="109692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735440" y="3840120"/>
            <a:ext cx="0" cy="3319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39480" y="4221000"/>
            <a:ext cx="174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Sulfa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3120" y="17161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It’s an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25960" y="4602240"/>
            <a:ext cx="18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-ate”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Use “___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3960" y="2849400"/>
            <a:ext cx="21132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34040" y="574524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name for the following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32880" y="1996920"/>
            <a:ext cx="11775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37280" y="1996920"/>
            <a:ext cx="361152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Nit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Hydrosulfu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hosphorous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name for the following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32880" y="1996920"/>
            <a:ext cx="11775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cid 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these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The cation is H</a:t>
            </a:r>
            <a:r>
              <a:rPr b="0" lang="en-US" sz="27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Write the anion and char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Balance the charges by adding the appropriate subscript to the hydrogen 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dro-”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4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4600" y="3086280"/>
            <a:ext cx="4782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4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94600" y="3086280"/>
            <a:ext cx="4782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6000" y="3049560"/>
            <a:ext cx="1143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90392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20680" y="2232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01880" y="3927600"/>
            <a:ext cx="31986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467080" y="3894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05480" y="4249800"/>
            <a:ext cx="380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Does not contain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900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62160" y="4648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F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4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94600" y="3086280"/>
            <a:ext cx="4782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049560"/>
            <a:ext cx="1143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90392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20680" y="2232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01880" y="3927600"/>
            <a:ext cx="31986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67080" y="3894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05480" y="4249800"/>
            <a:ext cx="380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Does not contain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9900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62160" y="4648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F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70160" y="549432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98720" y="4343400"/>
            <a:ext cx="7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50292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-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575928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ound is neu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cripts are not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these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The cation is H</a:t>
            </a:r>
            <a:r>
              <a:rPr b="0" lang="en-US" sz="27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If it is an “-ic” acid, the anion is the “-ate” polyatomic 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If it is an “-ous” acid, the anion is the “-ite” polyatomic 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Add subscript to the hydrogen cation to balance char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“Hydro-”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94960" y="3086280"/>
            <a:ext cx="3882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4960" y="3086280"/>
            <a:ext cx="3882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83080" y="3049560"/>
            <a:ext cx="1143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1306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7760" y="2232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01880" y="3927600"/>
            <a:ext cx="2286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151000" y="3894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8080" y="4249800"/>
            <a:ext cx="372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From the “___ate”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2572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46440" y="4648320"/>
            <a:ext cx="236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94960" y="3086280"/>
            <a:ext cx="3882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83080" y="3049560"/>
            <a:ext cx="1143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1306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7760" y="2232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01880" y="3927600"/>
            <a:ext cx="2286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151000" y="3894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8080" y="4249800"/>
            <a:ext cx="372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From the “___ate”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2572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46440" y="4648320"/>
            <a:ext cx="236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5494320"/>
            <a:ext cx="22161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49880" y="2209680"/>
            <a:ext cx="154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39360" y="2757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-2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595680"/>
            <a:ext cx="160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81680" y="31384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5880" y="41292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1 + -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94600" y="3086280"/>
            <a:ext cx="34160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94600" y="3086280"/>
            <a:ext cx="34160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25880" y="3049560"/>
            <a:ext cx="1143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6734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90560" y="2232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01880" y="3927600"/>
            <a:ext cx="18288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981080" y="3894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9840" y="4249800"/>
            <a:ext cx="364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From the “___ite”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6852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46440" y="4648320"/>
            <a:ext cx="236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94600" y="3086280"/>
            <a:ext cx="34160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125880" y="3049560"/>
            <a:ext cx="1143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6734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560" y="2232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01880" y="3927600"/>
            <a:ext cx="18288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981080" y="3894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89840" y="4249800"/>
            <a:ext cx="364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From the “___ite”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6852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46440" y="4648320"/>
            <a:ext cx="236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68720" y="5494320"/>
            <a:ext cx="22161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42120" y="3921120"/>
            <a:ext cx="154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30880" y="44686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-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ids – Arrhenius Defin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Hydronium ion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nium ion is water + a hydrogen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96520" y="3319200"/>
            <a:ext cx="967680" cy="1811880"/>
            <a:chOff x="1496520" y="3319200"/>
            <a:chExt cx="967680" cy="1811880"/>
          </a:xfrm>
        </p:grpSpPr>
        <p:grpSp>
          <p:nvGrpSpPr>
            <p:cNvPr id="101" name=""/>
            <p:cNvGrpSpPr/>
            <p:nvPr/>
          </p:nvGrpSpPr>
          <p:grpSpPr>
            <a:xfrm>
              <a:off x="1496520" y="3319200"/>
              <a:ext cx="967680" cy="1214280"/>
              <a:chOff x="1496520" y="3319200"/>
              <a:chExt cx="967680" cy="1214280"/>
            </a:xfrm>
          </p:grpSpPr>
          <p:sp>
            <p:nvSpPr>
              <p:cNvPr id="102" name=""/>
              <p:cNvSpPr/>
              <p:nvPr/>
            </p:nvSpPr>
            <p:spPr>
              <a:xfrm rot="255600">
                <a:off x="1509840" y="4021560"/>
                <a:ext cx="390240" cy="37116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55600">
                <a:off x="1716120" y="3653280"/>
                <a:ext cx="574560" cy="52632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25560">
                <a:solidFill>
                  <a:srgbClr val="f5d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55600">
                <a:off x="2061000" y="4062240"/>
                <a:ext cx="389880" cy="3711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55600">
                <a:off x="1670040" y="4251600"/>
                <a:ext cx="183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55600">
                <a:off x="1775520" y="3325320"/>
                <a:ext cx="183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608480" y="473220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879640" y="3774960"/>
            <a:ext cx="397080" cy="4431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32400" y="3774960"/>
            <a:ext cx="1622160" cy="457200"/>
          </a:xfrm>
          <a:prstGeom prst="rightArrow">
            <a:avLst>
              <a:gd name="adj1" fmla="val 50000"/>
              <a:gd name="adj2" fmla="val 88701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734640" y="3654360"/>
            <a:ext cx="694440" cy="547200"/>
            <a:chOff x="3734640" y="3654360"/>
            <a:chExt cx="694440" cy="547200"/>
          </a:xfrm>
        </p:grpSpPr>
        <p:sp>
          <p:nvSpPr>
            <p:cNvPr id="111" name=""/>
            <p:cNvSpPr/>
            <p:nvPr/>
          </p:nvSpPr>
          <p:spPr>
            <a:xfrm rot="255600">
              <a:off x="3747960" y="3816000"/>
              <a:ext cx="38880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87720" y="36543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766920" y="3497400"/>
            <a:ext cx="1192680" cy="1233000"/>
            <a:chOff x="6766920" y="3497400"/>
            <a:chExt cx="1192680" cy="1233000"/>
          </a:xfrm>
        </p:grpSpPr>
        <p:grpSp>
          <p:nvGrpSpPr>
            <p:cNvPr id="114" name=""/>
            <p:cNvGrpSpPr/>
            <p:nvPr/>
          </p:nvGrpSpPr>
          <p:grpSpPr>
            <a:xfrm>
              <a:off x="6766920" y="3516120"/>
              <a:ext cx="967680" cy="1214280"/>
              <a:chOff x="6766920" y="3516120"/>
              <a:chExt cx="967680" cy="1214280"/>
            </a:xfrm>
          </p:grpSpPr>
          <p:sp>
            <p:nvSpPr>
              <p:cNvPr id="115" name=""/>
              <p:cNvSpPr/>
              <p:nvPr/>
            </p:nvSpPr>
            <p:spPr>
              <a:xfrm rot="255600">
                <a:off x="6780240" y="4218480"/>
                <a:ext cx="390240" cy="37116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55600">
                <a:off x="6986520" y="3850200"/>
                <a:ext cx="574560" cy="52632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25560">
                <a:solidFill>
                  <a:srgbClr val="f5d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55600">
                <a:off x="7331400" y="4259160"/>
                <a:ext cx="389880" cy="3711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55600">
                <a:off x="6940440" y="4448520"/>
                <a:ext cx="183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55600">
                <a:off x="7045920" y="3522240"/>
                <a:ext cx="183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rot="255600">
              <a:off x="7086600" y="3511080"/>
              <a:ext cx="388800" cy="3715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18240" y="35701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95280" y="5572080"/>
            <a:ext cx="83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ition, if an acid is to give a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water, then all acids will have hydrogen as the cation (first element writt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rmula for the following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12000" y="1996920"/>
            <a:ext cx="271512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hosph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ydroiod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rbonous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er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312000" y="1996920"/>
            <a:ext cx="271512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hosph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ydroiod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rbonous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er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93040" y="1996920"/>
            <a:ext cx="22557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HCl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rmula for the following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ses – Arrhenius Defin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produce the hydroxide ion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079160" y="3241440"/>
            <a:ext cx="1162080" cy="1214640"/>
            <a:chOff x="4079160" y="3241440"/>
            <a:chExt cx="1162080" cy="1214640"/>
          </a:xfrm>
        </p:grpSpPr>
        <p:sp>
          <p:nvSpPr>
            <p:cNvPr id="309" name=""/>
            <p:cNvSpPr/>
            <p:nvPr/>
          </p:nvSpPr>
          <p:spPr>
            <a:xfrm rot="255600">
              <a:off x="4643280" y="3674520"/>
              <a:ext cx="390600" cy="371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55600">
              <a:off x="4134960" y="3576600"/>
              <a:ext cx="574920" cy="525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255600">
              <a:off x="4088880" y="417456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255600">
              <a:off x="4193640" y="3247920"/>
              <a:ext cx="18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57840" y="33591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459240" y="4170240"/>
            <a:ext cx="21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xid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&amp; Writ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bases are just ionic compounds with “hydroxide” as their 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exception to this is amm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NH</a:t>
            </a:r>
            <a:r>
              <a:rPr b="0" lang="en-US" sz="27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 (ammonia) is a base even though it doesn’t contain “-OH” as the an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39440" y="3170160"/>
            <a:ext cx="2090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39440" y="3170160"/>
            <a:ext cx="2090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41320" y="3133800"/>
            <a:ext cx="457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74960" y="2771640"/>
            <a:ext cx="0" cy="3319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37560" y="2316240"/>
            <a:ext cx="130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87480" y="4011480"/>
            <a:ext cx="6858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168720" y="4002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67360" y="4334040"/>
            <a:ext cx="167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70080" y="3360600"/>
            <a:ext cx="39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rmula or name for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13440" y="1996920"/>
            <a:ext cx="36644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(OH)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K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r(OH)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opper (II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70600" y="1996920"/>
            <a:ext cx="3778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alc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otas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tront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u(OH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rmula or name for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13440" y="1996920"/>
            <a:ext cx="36644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(OH)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K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r(OH)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opper (II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do Acids produce Hydroniu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082240" y="2790720"/>
            <a:ext cx="967680" cy="1214280"/>
            <a:chOff x="2082240" y="2790720"/>
            <a:chExt cx="967680" cy="1214280"/>
          </a:xfrm>
        </p:grpSpPr>
        <p:sp>
          <p:nvSpPr>
            <p:cNvPr id="125" name=""/>
            <p:cNvSpPr/>
            <p:nvPr/>
          </p:nvSpPr>
          <p:spPr>
            <a:xfrm rot="255600">
              <a:off x="2095560" y="3493080"/>
              <a:ext cx="390240" cy="371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5600">
              <a:off x="2301840" y="3124800"/>
              <a:ext cx="574560" cy="5263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55600">
              <a:off x="2646720" y="3533760"/>
              <a:ext cx="389880" cy="371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55600">
              <a:off x="2255760" y="3723120"/>
              <a:ext cx="183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55600">
              <a:off x="2361240" y="2796840"/>
              <a:ext cx="183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884200" y="3003480"/>
            <a:ext cx="1027800" cy="719280"/>
            <a:chOff x="5884200" y="3003480"/>
            <a:chExt cx="1027800" cy="719280"/>
          </a:xfrm>
        </p:grpSpPr>
        <p:sp>
          <p:nvSpPr>
            <p:cNvPr id="131" name=""/>
            <p:cNvSpPr/>
            <p:nvPr/>
          </p:nvSpPr>
          <p:spPr>
            <a:xfrm rot="255600">
              <a:off x="5897520" y="3200040"/>
              <a:ext cx="38916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62560" y="3110040"/>
              <a:ext cx="649440" cy="6127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12320" y="30034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194200" y="42037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65000" y="42465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48760" y="476244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cation with some a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18542 -0.06227 E">
                                      <p:cBhvr>
                                        <p:cTn id="6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7 L 0.1967 -3.7037E-007 E">
                                      <p:cBhvr>
                                        <p:cTn id="7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do Acids produce Hydroniu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55600">
            <a:off x="4155840" y="2782800"/>
            <a:ext cx="18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77560" y="2759400"/>
            <a:ext cx="968040" cy="1231560"/>
            <a:chOff x="3877560" y="2759400"/>
            <a:chExt cx="968040" cy="1231560"/>
          </a:xfrm>
        </p:grpSpPr>
        <p:sp>
          <p:nvSpPr>
            <p:cNvPr id="140" name=""/>
            <p:cNvSpPr/>
            <p:nvPr/>
          </p:nvSpPr>
          <p:spPr>
            <a:xfrm rot="255600">
              <a:off x="3890880" y="3479400"/>
              <a:ext cx="390600" cy="371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55600">
              <a:off x="4096800" y="3111480"/>
              <a:ext cx="574920" cy="525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55600">
              <a:off x="4441680" y="3519000"/>
              <a:ext cx="390600" cy="371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55600">
              <a:off x="4051080" y="370980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55600">
              <a:off x="4199040" y="2773080"/>
              <a:ext cx="38880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564080" y="2576520"/>
            <a:ext cx="649440" cy="719280"/>
            <a:chOff x="4564080" y="2576520"/>
            <a:chExt cx="649440" cy="719280"/>
          </a:xfrm>
        </p:grpSpPr>
        <p:sp>
          <p:nvSpPr>
            <p:cNvPr id="146" name=""/>
            <p:cNvSpPr/>
            <p:nvPr/>
          </p:nvSpPr>
          <p:spPr>
            <a:xfrm>
              <a:off x="4564080" y="2682720"/>
              <a:ext cx="649440" cy="613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3480" y="257652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701880" y="27892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do Acids produce Hydroniu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94800" y="2749680"/>
            <a:ext cx="968040" cy="1231560"/>
            <a:chOff x="1594800" y="2749680"/>
            <a:chExt cx="968040" cy="1231560"/>
          </a:xfrm>
        </p:grpSpPr>
        <p:sp>
          <p:nvSpPr>
            <p:cNvPr id="151" name=""/>
            <p:cNvSpPr/>
            <p:nvPr/>
          </p:nvSpPr>
          <p:spPr>
            <a:xfrm rot="255600">
              <a:off x="1608120" y="3469680"/>
              <a:ext cx="390600" cy="371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55600">
              <a:off x="1814040" y="3101760"/>
              <a:ext cx="574920" cy="525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55600">
              <a:off x="2158920" y="3509280"/>
              <a:ext cx="390600" cy="371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55600">
              <a:off x="1768320" y="370008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55600">
              <a:off x="1916280" y="2763360"/>
              <a:ext cx="38880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419120" y="27795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837480" y="2581200"/>
            <a:ext cx="649080" cy="719280"/>
            <a:chOff x="6837480" y="2581200"/>
            <a:chExt cx="649080" cy="719280"/>
          </a:xfrm>
        </p:grpSpPr>
        <p:sp>
          <p:nvSpPr>
            <p:cNvPr id="158" name=""/>
            <p:cNvSpPr/>
            <p:nvPr/>
          </p:nvSpPr>
          <p:spPr>
            <a:xfrm>
              <a:off x="6837480" y="2687400"/>
              <a:ext cx="649080" cy="613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86520" y="258120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191600" y="418788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9080" y="42465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 h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Start with “H” (more than 1 “H” is OK, to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Do not contain oxyg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name these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Use “hydro____ic acid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Fill in the blank with the anion’s name without the last syll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non-oxygen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39440" y="3170160"/>
            <a:ext cx="1442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19:36:13Z</dcterms:created>
  <dc:creator>Luke H Deters</dc:creator>
  <dc:description/>
  <dc:language>en-US</dc:language>
  <cp:lastModifiedBy>detersk</cp:lastModifiedBy>
  <dcterms:modified xsi:type="dcterms:W3CDTF">2006-09-25T13:31:49Z</dcterms:modified>
  <cp:revision>11</cp:revision>
  <dc:subject/>
  <dc:title>Chemistry You Need to Know</dc:title>
</cp:coreProperties>
</file>